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4F94-A091-40F5-98F3-1FD930D4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AF08-BC90-4CD8-8A79-47557A48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26F-0478-4D9F-BC4C-C4BBAA89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980-52D2-401F-B26E-330890AA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70E6-8A98-450F-A4AC-72C4B0B9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F67-B122-44A7-AC08-683B0A3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240-53DF-4A28-9497-D57C568D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A9FE-FC86-4C73-A01C-3D941637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59BB-B9FC-400D-B876-9CF1C266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E257-E68C-4A08-A832-EEDA9DD1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3163-EAED-4CBA-852D-644AFFD6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895-5A3B-45FE-82A5-91A99FFA1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FA8D-405B-4331-8330-96995FD6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E8FA-0B77-4C4E-9C35-CB78D066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DBB6-1440-476F-B94D-D8723594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B014-8E43-4635-8121-4B414CC5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E147-E4DC-4B45-8364-8CE2CEFD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5DC-7136-4BB8-A310-10BA9712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904-13E8-447A-A0BC-49AB19C6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B80C-DE67-4AB6-84BD-455BA583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BA0-FA33-495C-907D-5F6E65A7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CFB-D24E-4FE2-B401-B5676A4A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68DA-9B9F-4DA5-A55A-92DFC3D3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D05E-BA7D-4BB4-A465-DA5C8EFD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E0D9-97D4-409A-9BA0-FF93397E70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747F-CA2A-4E67-B77E-539E41C371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gels Haven Schoo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nit Portfolio 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Danica Hiyasmin Q. Poblet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Jaysa M. Ming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Our Goa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arn more strategies with the help of technology that will motivate students to lear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nd ways to get my students to do more higher-order think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auging Student Needs Assessme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we will learn from the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our pupils think about the importance of learning the self help skil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at our pupils think are the importance of discipline and independ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What our pupils will gain from the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y will be able to find various resources about bookmarks, quotations and friendship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quest for Feedbac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deas for helping children having self – determination and loyalty to friends and other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Arial"/>
              </a:rPr>
              <a:t>Thank  You!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"/>
              </a:rPr>
              <a:t>A Skill on Creating Bookmarks through Reading Quotations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Unit Summary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unit will tell a story about a loyal friend that made a heroic action. This will also discuss about quotations and bookmarks. Through reading quotations, the learners will make attractive bookmarks by writing friendship quotations that will nurture self – determination and loyal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urriculum-Fram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Essential Ques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the importance of loyalt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it Question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significantly use quotations by creating bookmark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use bookmarks to express our love with our friends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Questions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create artistic bookmarks through reading quota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quotati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is bookmark?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Vision for Un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creating this unit, we want our students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low and high technologies that will allow them to know about bookmarks, quotations and value of having loyal friend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ing creative while they are working on the proje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Project Approach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our students work on the project, they will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k together and share their learning's with pe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e a product that shows what they’ve learn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erience innovating creative and useful pro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006666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Century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udents will develop higher-order and 21</a:t>
            </a:r>
            <a:r>
              <a:rPr b="0" lang="en-US" sz="3200" spc="-1" strike="noStrike" baseline="30000">
                <a:solidFill>
                  <a:srgbClr val="003366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century skills in this unit as they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Essential and Unit Questions to guide their daily work that will allow them to gain independence in every task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e and share their ideas with peer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3366"/>
              </a:buClr>
              <a:buSzPct val="7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se the blog site to share their experien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0:28:33Z</dcterms:created>
  <dc:creator>nave1386</dc:creator>
  <dc:description/>
  <dc:language>en-US</dc:language>
  <cp:lastModifiedBy>nave1386</cp:lastModifiedBy>
  <dcterms:modified xsi:type="dcterms:W3CDTF">2010-09-20T20:43:12Z</dcterms:modified>
  <cp:revision>17</cp:revision>
  <dc:subject/>
  <dc:title>Angels Haven School </dc:title>
</cp:coreProperties>
</file>